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23.png" ContentType="image/png"/>
  <Override PartName="/ppt/media/image53.wmf" ContentType="image/x-wmf"/>
  <Override PartName="/ppt/media/image45.png" ContentType="image/png"/>
  <Override PartName="/ppt/media/image28.wmf" ContentType="image/x-wmf"/>
  <Override PartName="/ppt/media/image46.png" ContentType="image/png"/>
  <Override PartName="/ppt/media/image12.png" ContentType="image/png"/>
  <Override PartName="/ppt/media/image35.wmf" ContentType="image/x-wmf"/>
  <Override PartName="/ppt/media/image52.png" ContentType="image/png"/>
  <Override PartName="/ppt/media/image47.wmf" ContentType="image/x-wmf"/>
  <Override PartName="/ppt/media/image51.png" ContentType="image/png"/>
  <Override PartName="/ppt/media/image8.png" ContentType="image/png"/>
  <Override PartName="/ppt/media/image38.png" ContentType="image/png"/>
  <Override PartName="/ppt/media/image41.wmf" ContentType="image/x-wmf"/>
  <Override PartName="/ppt/media/image42.png" ContentType="image/png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48.png" ContentType="image/png"/>
  <Override PartName="/ppt/media/image36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0.png" ContentType="image/png"/>
  <Override PartName="/ppt/media/image50.wmf" ContentType="image/x-wmf"/>
  <Override PartName="/ppt/media/image5.png" ContentType="image/png"/>
  <Override PartName="/ppt/media/image43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8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8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hyperlink" Target="file:///10Math_A2_CR08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8–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9.xml"/><Relationship Id="rId8" Type="http://schemas.openxmlformats.org/officeDocument/2006/relationships/slide" Target="slide20.xml"/><Relationship Id="rId9" Type="http://schemas.openxmlformats.org/officeDocument/2006/relationships/slide" Target="slide22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4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rcRect l="11673" t="55591" r="54990" b="14409"/>
          <a:stretch/>
        </p:blipFill>
        <p:spPr>
          <a:xfrm>
            <a:off x="3429000" y="380988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4305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455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Use the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76240" y="1503360"/>
            <a:ext cx="71881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Us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2 ≈ 0.4307 to approximate the value of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25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2529000"/>
            <a:ext cx="83232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57880" indent="-4114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085760"/>
                <a:tab algn="l" pos="120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5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●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 250 with 5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●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7880" indent="-4114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085760"/>
                <a:tab algn="l" pos="120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5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7880" indent="-4114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085760"/>
                <a:tab algn="l" pos="120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3 +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verse Property of Exponents and Loga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57880" indent="-411480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085760"/>
                <a:tab algn="l" pos="12002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 + 0.4307 or 3.430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2 with 0.43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3520" y="5168880"/>
            <a:ext cx="82296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us, log</a:t>
            </a:r>
            <a:r>
              <a:rPr b="0" lang="en-US" sz="2400" spc="-1" strike="noStrike" baseline="-25000">
                <a:solidFill>
                  <a:srgbClr val="e01b22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250 is approximately 3.43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"/>
          <p:cNvSpPr/>
          <p:nvPr/>
        </p:nvSpPr>
        <p:spPr>
          <a:xfrm>
            <a:off x="876240" y="52704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65" name="TPAnswers"/>
          <p:cNvSpPr/>
          <p:nvPr/>
        </p:nvSpPr>
        <p:spPr>
          <a:xfrm>
            <a:off x="914400" y="245916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3.4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.4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5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5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PQuestion"/>
          <p:cNvSpPr/>
          <p:nvPr/>
        </p:nvSpPr>
        <p:spPr>
          <a:xfrm>
            <a:off x="533520" y="1504800"/>
            <a:ext cx="83055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iven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3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≈ 1.5850, what is the approximate value of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96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746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Quotien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76240" y="1295280"/>
            <a:ext cx="7705800" cy="2653560"/>
            <a:chOff x="876240" y="1295280"/>
            <a:chExt cx="7705800" cy="2653560"/>
          </a:xfrm>
        </p:grpSpPr>
        <p:sp>
          <p:nvSpPr>
            <p:cNvPr id="572" name=""/>
            <p:cNvSpPr/>
            <p:nvPr/>
          </p:nvSpPr>
          <p:spPr>
            <a:xfrm>
              <a:off x="876240" y="1295280"/>
              <a:ext cx="770580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e01b22"/>
                  </a:solidFill>
                  <a:latin typeface="Arial"/>
                </a:rPr>
                <a:t>SCIENCE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539d"/>
                  </a:solidFill>
                  <a:latin typeface="Arial"/>
                </a:rPr>
                <a:t>The pH of a substance is defined as the concentration of hydrogen ions [</a:t>
              </a:r>
              <a:r>
                <a:rPr b="1" i="1" lang="en-US" sz="2800" spc="-1" strike="noStrike">
                  <a:solidFill>
                    <a:srgbClr val="00539d"/>
                  </a:solidFill>
                  <a:latin typeface="Arial"/>
                </a:rPr>
                <a:t>H</a:t>
              </a:r>
              <a:r>
                <a:rPr b="1" lang="en-US" sz="2800" spc="-1" strike="noStrike">
                  <a:solidFill>
                    <a:srgbClr val="00539d"/>
                  </a:solidFill>
                  <a:latin typeface="Arial"/>
                </a:rPr>
                <a:t>+] in moles. It is given by the formula </a:t>
              </a:r>
              <a:br>
                <a:rPr sz="2800"/>
              </a:br>
              <a:r>
                <a:rPr b="1" lang="en-US" sz="2800" spc="-1" strike="noStrike">
                  <a:solidFill>
                    <a:srgbClr val="00539d"/>
                  </a:solidFill>
                  <a:latin typeface="Arial"/>
                </a:rPr>
                <a:t>pH =            . Find the amount of hydrogen in a liter of acid rain that has a pH of 5.5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" descr=""/>
            <p:cNvPicPr/>
            <p:nvPr/>
          </p:nvPicPr>
          <p:blipFill>
            <a:blip r:embed="rId1"/>
            <a:srcRect l="0" t="5596" r="0" b="0"/>
            <a:stretch/>
          </p:blipFill>
          <p:spPr>
            <a:xfrm>
              <a:off x="1790640" y="2819520"/>
              <a:ext cx="1133640" cy="722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Quotien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3520" y="1549440"/>
            <a:ext cx="8286480" cy="17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92440" indent="-2349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Understand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rmula for finding pH and the pH of the rain is gi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92440" indent="-2349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the equation. Then, solve for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92440" indent="-2349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600200" y="3152880"/>
            <a:ext cx="6238800" cy="838080"/>
            <a:chOff x="1600200" y="3152880"/>
            <a:chExt cx="6238800" cy="838080"/>
          </a:xfrm>
        </p:grpSpPr>
        <p:sp>
          <p:nvSpPr>
            <p:cNvPr id="578" name=""/>
            <p:cNvSpPr/>
            <p:nvPr/>
          </p:nvSpPr>
          <p:spPr>
            <a:xfrm>
              <a:off x="4952880" y="3338640"/>
              <a:ext cx="288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9" name="" descr=""/>
            <p:cNvPicPr/>
            <p:nvPr/>
          </p:nvPicPr>
          <p:blipFill>
            <a:blip r:embed="rId1"/>
            <a:srcRect l="0" t="0" r="0" b="68575"/>
            <a:stretch/>
          </p:blipFill>
          <p:spPr>
            <a:xfrm>
              <a:off x="1600200" y="3152880"/>
              <a:ext cx="287028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0" name=""/>
          <p:cNvGrpSpPr/>
          <p:nvPr/>
        </p:nvGrpSpPr>
        <p:grpSpPr>
          <a:xfrm>
            <a:off x="1539720" y="4724280"/>
            <a:ext cx="6839280" cy="609840"/>
            <a:chOff x="1539720" y="4724280"/>
            <a:chExt cx="6839280" cy="609840"/>
          </a:xfrm>
        </p:grpSpPr>
        <p:sp>
          <p:nvSpPr>
            <p:cNvPr id="581" name=""/>
            <p:cNvSpPr/>
            <p:nvPr/>
          </p:nvSpPr>
          <p:spPr>
            <a:xfrm>
              <a:off x="4952880" y="4848120"/>
              <a:ext cx="342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otient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2"/>
            <a:srcRect l="0" t="60003" r="0" b="17144"/>
            <a:stretch/>
          </p:blipFill>
          <p:spPr>
            <a:xfrm>
              <a:off x="1539720" y="4724280"/>
              <a:ext cx="2870280" cy="60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1555920" y="3886200"/>
            <a:ext cx="6823080" cy="838080"/>
            <a:chOff x="1555920" y="3886200"/>
            <a:chExt cx="6823080" cy="838080"/>
          </a:xfrm>
        </p:grpSpPr>
        <p:sp>
          <p:nvSpPr>
            <p:cNvPr id="584" name=""/>
            <p:cNvSpPr/>
            <p:nvPr/>
          </p:nvSpPr>
          <p:spPr>
            <a:xfrm>
              <a:off x="4952880" y="4160880"/>
              <a:ext cx="342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ubstitute 5.5 for p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3"/>
            <a:srcRect l="0" t="31433" r="0" b="37142"/>
            <a:stretch/>
          </p:blipFill>
          <p:spPr>
            <a:xfrm>
              <a:off x="1555920" y="3886200"/>
              <a:ext cx="2869920" cy="83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6" name=""/>
          <p:cNvGrpSpPr/>
          <p:nvPr/>
        </p:nvGrpSpPr>
        <p:grpSpPr>
          <a:xfrm>
            <a:off x="1539720" y="5486400"/>
            <a:ext cx="6839280" cy="533520"/>
            <a:chOff x="1539720" y="5486400"/>
            <a:chExt cx="6839280" cy="533520"/>
          </a:xfrm>
        </p:grpSpPr>
        <p:sp>
          <p:nvSpPr>
            <p:cNvPr id="587" name=""/>
            <p:cNvSpPr/>
            <p:nvPr/>
          </p:nvSpPr>
          <p:spPr>
            <a:xfrm>
              <a:off x="4952880" y="5522760"/>
              <a:ext cx="34261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=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4"/>
            <a:srcRect l="0" t="80010" r="0" b="0"/>
            <a:stretch/>
          </p:blipFill>
          <p:spPr>
            <a:xfrm>
              <a:off x="1539720" y="5486400"/>
              <a:ext cx="28702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Quotien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65840" y="1536840"/>
            <a:ext cx="2885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965840" y="2298600"/>
            <a:ext cx="3873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each side by –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956120" y="3048120"/>
            <a:ext cx="365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loga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389880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There are 10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–5.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, or about 0.0000032, mole of hydrogen in a liter of this rain.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1752480" y="3060720"/>
            <a:ext cx="1660680" cy="533160"/>
            <a:chOff x="1752480" y="3060720"/>
            <a:chExt cx="1660680" cy="533160"/>
          </a:xfrm>
        </p:grpSpPr>
        <p:pic>
          <p:nvPicPr>
            <p:cNvPr id="596" name="" descr=""/>
            <p:cNvPicPr/>
            <p:nvPr/>
          </p:nvPicPr>
          <p:blipFill>
            <a:blip r:embed="rId1"/>
            <a:srcRect l="0" t="59642" r="66506" b="31928"/>
            <a:stretch/>
          </p:blipFill>
          <p:spPr>
            <a:xfrm>
              <a:off x="1752480" y="3093840"/>
              <a:ext cx="106704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803680" y="3060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1752480" y="2282760"/>
            <a:ext cx="2210040" cy="549360"/>
            <a:chOff x="1752480" y="2282760"/>
            <a:chExt cx="2210040" cy="549360"/>
          </a:xfrm>
        </p:grpSpPr>
        <p:pic>
          <p:nvPicPr>
            <p:cNvPr id="599" name="" descr=""/>
            <p:cNvPicPr/>
            <p:nvPr/>
          </p:nvPicPr>
          <p:blipFill>
            <a:blip r:embed="rId2"/>
            <a:srcRect l="0" t="51206" r="47360" b="40365"/>
            <a:stretch/>
          </p:blipFill>
          <p:spPr>
            <a:xfrm>
              <a:off x="1752480" y="2298600"/>
              <a:ext cx="1676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352680" y="22827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752480" y="1460520"/>
            <a:ext cx="2454480" cy="673200"/>
            <a:chOff x="1752480" y="1460520"/>
            <a:chExt cx="2454480" cy="673200"/>
          </a:xfrm>
        </p:grpSpPr>
        <p:pic>
          <p:nvPicPr>
            <p:cNvPr id="602" name="" descr=""/>
            <p:cNvPicPr/>
            <p:nvPr/>
          </p:nvPicPr>
          <p:blipFill>
            <a:blip r:embed="rId3"/>
            <a:srcRect l="0" t="41770" r="40182" b="47592"/>
            <a:stretch/>
          </p:blipFill>
          <p:spPr>
            <a:xfrm>
              <a:off x="1752480" y="1460520"/>
              <a:ext cx="19051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3597120" y="15238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267080" y="76212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Quotien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542880" y="3325680"/>
            <a:ext cx="8143920" cy="621000"/>
            <a:chOff x="542880" y="3325680"/>
            <a:chExt cx="8143920" cy="621000"/>
          </a:xfrm>
        </p:grpSpPr>
        <p:sp>
          <p:nvSpPr>
            <p:cNvPr id="607" name=""/>
            <p:cNvSpPr/>
            <p:nvPr/>
          </p:nvSpPr>
          <p:spPr>
            <a:xfrm>
              <a:off x="542880" y="3478320"/>
              <a:ext cx="81439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828800"/>
                  <a:tab algn="l" pos="1943280"/>
                  <a:tab algn="l" pos="5029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 –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–5.5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otient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14600" y="332568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42880" y="4076640"/>
            <a:ext cx="8143920" cy="573840"/>
            <a:chOff x="542880" y="4076640"/>
            <a:chExt cx="8143920" cy="573840"/>
          </a:xfrm>
        </p:grpSpPr>
        <p:sp>
          <p:nvSpPr>
            <p:cNvPr id="610" name=""/>
            <p:cNvSpPr/>
            <p:nvPr/>
          </p:nvSpPr>
          <p:spPr>
            <a:xfrm>
              <a:off x="542880" y="4227480"/>
              <a:ext cx="81439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828800"/>
                  <a:tab algn="l" pos="1943280"/>
                  <a:tab algn="l" pos="50292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.5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 0 – (–5.5)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514600" y="407664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542880" y="5065560"/>
            <a:ext cx="814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828800"/>
                <a:tab algn="l" pos="19432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.5 </a:t>
            </a:r>
            <a:r>
              <a:rPr b="0" lang="en-US" sz="2400" spc="-1" strike="noStrike">
                <a:solidFill>
                  <a:srgbClr val="e01b22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257800" y="1816200"/>
            <a:ext cx="3425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= 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752480" y="2502000"/>
            <a:ext cx="3184560" cy="761760"/>
            <a:chOff x="1752480" y="2502000"/>
            <a:chExt cx="3184560" cy="761760"/>
          </a:xfrm>
        </p:grpSpPr>
        <p:pic>
          <p:nvPicPr>
            <p:cNvPr id="615" name="" descr=""/>
            <p:cNvPicPr/>
            <p:nvPr/>
          </p:nvPicPr>
          <p:blipFill>
            <a:blip r:embed="rId1"/>
            <a:srcRect l="0" t="87954" r="0" b="0"/>
            <a:stretch/>
          </p:blipFill>
          <p:spPr>
            <a:xfrm>
              <a:off x="1752480" y="2502000"/>
              <a:ext cx="318456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2540160" y="252720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5257800" y="2678040"/>
            <a:ext cx="3425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–5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33520" y="13716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"/>
          <a:srcRect l="0" t="31599" r="27129" b="39176"/>
          <a:stretch/>
        </p:blipFill>
        <p:spPr>
          <a:xfrm>
            <a:off x="2048040" y="1676520"/>
            <a:ext cx="2111040" cy="787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4" name="TPAnswers"/>
          <p:cNvSpPr/>
          <p:nvPr/>
        </p:nvSpPr>
        <p:spPr>
          <a:xfrm>
            <a:off x="838080" y="3809880"/>
            <a:ext cx="426744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00000042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00000034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00000020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0000017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51814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3"/>
          <a:stretch/>
        </p:blipFill>
        <p:spPr>
          <a:xfrm>
            <a:off x="424008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28" name="TPQuestion"/>
          <p:cNvSpPr/>
          <p:nvPr/>
        </p:nvSpPr>
        <p:spPr>
          <a:xfrm>
            <a:off x="476280" y="1371600"/>
            <a:ext cx="828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SCIENCE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The pH of a substance is defined as the concentration of hydrogen ions [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H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] in moles. It is given by the formula pH = log10        Find the amount of hydrogen in a liter of milk that has a pH of 6.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5"/>
          <a:srcRect l="66753" t="0" r="0" b="0"/>
          <a:stretch/>
        </p:blipFill>
        <p:spPr>
          <a:xfrm>
            <a:off x="5511960" y="2514600"/>
            <a:ext cx="612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463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8–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Key Concept: Product Property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1:	Use the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Key Concept:  Quotient Property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2:	Real-World Example: Quotien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Key Concept:  Power Property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xample 3:	Power Property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Example 4:	Solve Equations Using Properties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Power Property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76240" y="1514520"/>
            <a:ext cx="770580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iven that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6 </a:t>
            </a:r>
            <a:r>
              <a:rPr b="0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1.1133, approximate the value of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2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520" y="2540160"/>
            <a:ext cx="8359560" cy="36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7800" indent="-49147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542960"/>
                <a:tab algn="l" pos="1657440"/>
                <a:tab algn="l" pos="194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216 with 6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7800" indent="-49147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542960"/>
                <a:tab algn="l" pos="1657440"/>
                <a:tab algn="l" pos="194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57800" indent="-49147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542960"/>
                <a:tab algn="l" pos="1657440"/>
                <a:tab algn="l" pos="194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(1.1133) or 3.339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 with 1.113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257800" indent="-4913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3.3399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"/>
          <p:cNvSpPr/>
          <p:nvPr/>
        </p:nvSpPr>
        <p:spPr>
          <a:xfrm>
            <a:off x="907920" y="42004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44" name="TPAnswers"/>
          <p:cNvSpPr/>
          <p:nvPr/>
        </p:nvSpPr>
        <p:spPr>
          <a:xfrm>
            <a:off x="914400" y="234936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32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79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.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.46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PQuestion"/>
          <p:cNvSpPr/>
          <p:nvPr/>
        </p:nvSpPr>
        <p:spPr>
          <a:xfrm>
            <a:off x="533520" y="1504800"/>
            <a:ext cx="83055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iven that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6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≈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1.2925, what is the approximate value of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1296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quations Using Properties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911160" y="4694400"/>
            <a:ext cx="8004240" cy="584640"/>
            <a:chOff x="911160" y="4694400"/>
            <a:chExt cx="8004240" cy="584640"/>
          </a:xfrm>
        </p:grpSpPr>
        <p:pic>
          <p:nvPicPr>
            <p:cNvPr id="649" name="" descr=""/>
            <p:cNvPicPr/>
            <p:nvPr/>
          </p:nvPicPr>
          <p:blipFill>
            <a:blip r:embed="rId1"/>
            <a:srcRect l="0" t="86338" r="0" b="0"/>
            <a:stretch/>
          </p:blipFill>
          <p:spPr>
            <a:xfrm>
              <a:off x="911160" y="4694400"/>
              <a:ext cx="3403800" cy="54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5172120" y="4856040"/>
              <a:ext cx="374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y each side by 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901800" y="153684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4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5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1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911160" y="1971720"/>
            <a:ext cx="7147080" cy="503280"/>
            <a:chOff x="911160" y="1971720"/>
            <a:chExt cx="7147080" cy="503280"/>
          </a:xfrm>
        </p:grpSpPr>
        <p:sp>
          <p:nvSpPr>
            <p:cNvPr id="653" name=""/>
            <p:cNvSpPr/>
            <p:nvPr/>
          </p:nvSpPr>
          <p:spPr>
            <a:xfrm>
              <a:off x="5172120" y="1981440"/>
              <a:ext cx="288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4" name="" descr=""/>
            <p:cNvPicPr/>
            <p:nvPr/>
          </p:nvPicPr>
          <p:blipFill>
            <a:blip r:embed="rId2"/>
            <a:srcRect l="0" t="0" r="0" b="87298"/>
            <a:stretch/>
          </p:blipFill>
          <p:spPr>
            <a:xfrm>
              <a:off x="911160" y="1971720"/>
              <a:ext cx="340380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"/>
          <p:cNvGrpSpPr/>
          <p:nvPr/>
        </p:nvGrpSpPr>
        <p:grpSpPr>
          <a:xfrm>
            <a:off x="911160" y="2481120"/>
            <a:ext cx="7147080" cy="649440"/>
            <a:chOff x="911160" y="2481120"/>
            <a:chExt cx="7147080" cy="649440"/>
          </a:xfrm>
        </p:grpSpPr>
        <p:pic>
          <p:nvPicPr>
            <p:cNvPr id="656" name="" descr=""/>
            <p:cNvPicPr/>
            <p:nvPr/>
          </p:nvPicPr>
          <p:blipFill>
            <a:blip r:embed="rId3"/>
            <a:srcRect l="0" t="15430" r="0" b="68181"/>
            <a:stretch/>
          </p:blipFill>
          <p:spPr>
            <a:xfrm>
              <a:off x="911160" y="2481120"/>
              <a:ext cx="340380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"/>
            <p:cNvSpPr/>
            <p:nvPr/>
          </p:nvSpPr>
          <p:spPr>
            <a:xfrm>
              <a:off x="5172120" y="2517480"/>
              <a:ext cx="288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wer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911160" y="2973240"/>
            <a:ext cx="7321680" cy="971280"/>
            <a:chOff x="911160" y="2973240"/>
            <a:chExt cx="7321680" cy="971280"/>
          </a:xfrm>
        </p:grpSpPr>
        <p:pic>
          <p:nvPicPr>
            <p:cNvPr id="659" name="" descr=""/>
            <p:cNvPicPr/>
            <p:nvPr/>
          </p:nvPicPr>
          <p:blipFill>
            <a:blip r:embed="rId4"/>
            <a:srcRect l="0" t="31825" r="0" b="43649"/>
            <a:stretch/>
          </p:blipFill>
          <p:spPr>
            <a:xfrm>
              <a:off x="911160" y="2973240"/>
              <a:ext cx="340380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"/>
            <p:cNvSpPr/>
            <p:nvPr/>
          </p:nvSpPr>
          <p:spPr>
            <a:xfrm>
              <a:off x="5172120" y="3255480"/>
              <a:ext cx="3060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uotient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911160" y="3871800"/>
            <a:ext cx="7932960" cy="1042920"/>
            <a:chOff x="911160" y="3871800"/>
            <a:chExt cx="7932960" cy="1042920"/>
          </a:xfrm>
        </p:grpSpPr>
        <p:pic>
          <p:nvPicPr>
            <p:cNvPr id="662" name="" descr=""/>
            <p:cNvPicPr/>
            <p:nvPr/>
          </p:nvPicPr>
          <p:blipFill>
            <a:blip r:embed="rId5"/>
            <a:srcRect l="0" t="60003" r="0" b="13667"/>
            <a:stretch/>
          </p:blipFill>
          <p:spPr>
            <a:xfrm>
              <a:off x="911160" y="3871800"/>
              <a:ext cx="3403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"/>
            <p:cNvSpPr/>
            <p:nvPr/>
          </p:nvSpPr>
          <p:spPr>
            <a:xfrm>
              <a:off x="5172120" y="4022640"/>
              <a:ext cx="3672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perty of Equality for Logarithmic Fun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520560" y="538812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29200" indent="-4684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r" pos="2228760"/>
                <a:tab algn="l" pos="2343240"/>
                <a:tab algn="l" pos="257184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4th root of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Equations Using Properties of Loga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33520" y="13716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29200" indent="-4684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600200" y="2678040"/>
            <a:ext cx="6705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520" y="191628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heck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each value into the origi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600200" y="3090960"/>
            <a:ext cx="6705720" cy="625320"/>
            <a:chOff x="1600200" y="3090960"/>
            <a:chExt cx="6705720" cy="625320"/>
          </a:xfrm>
        </p:grpSpPr>
        <p:sp>
          <p:nvSpPr>
            <p:cNvPr id="671" name=""/>
            <p:cNvSpPr/>
            <p:nvPr/>
          </p:nvSpPr>
          <p:spPr>
            <a:xfrm>
              <a:off x="4206960" y="30909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600200" y="3247920"/>
              <a:ext cx="670572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 –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 =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736640" y="3747960"/>
            <a:ext cx="5639040" cy="617760"/>
            <a:chOff x="1736640" y="3747960"/>
            <a:chExt cx="5639040" cy="617760"/>
          </a:xfrm>
        </p:grpSpPr>
        <p:sp>
          <p:nvSpPr>
            <p:cNvPr id="674" name=""/>
            <p:cNvSpPr/>
            <p:nvPr/>
          </p:nvSpPr>
          <p:spPr>
            <a:xfrm>
              <a:off x="1736640" y="3897360"/>
              <a:ext cx="563904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 =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213080" y="3747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835360" y="5151600"/>
            <a:ext cx="4556160" cy="622080"/>
            <a:chOff x="2835360" y="5151600"/>
            <a:chExt cx="4556160" cy="622080"/>
          </a:xfrm>
        </p:grpSpPr>
        <p:sp>
          <p:nvSpPr>
            <p:cNvPr id="677" name=""/>
            <p:cNvSpPr/>
            <p:nvPr/>
          </p:nvSpPr>
          <p:spPr>
            <a:xfrm>
              <a:off x="2835360" y="5305320"/>
              <a:ext cx="455616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5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log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1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81400" y="5151600"/>
              <a:ext cx="2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2622600" y="5838840"/>
            <a:ext cx="3962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5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25</a:t>
            </a:r>
            <a:r>
              <a:rPr b="0" lang="en-US" sz="2400" spc="-1" strike="noStrike">
                <a:solidFill>
                  <a:srgbClr val="e01b22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201840" y="4371840"/>
            <a:ext cx="2376720" cy="849600"/>
            <a:chOff x="3201840" y="4371840"/>
            <a:chExt cx="2376720" cy="849600"/>
          </a:xfrm>
        </p:grpSpPr>
        <p:pic>
          <p:nvPicPr>
            <p:cNvPr id="681" name="" descr=""/>
            <p:cNvPicPr/>
            <p:nvPr/>
          </p:nvPicPr>
          <p:blipFill>
            <a:blip r:embed="rId1"/>
            <a:stretch/>
          </p:blipFill>
          <p:spPr>
            <a:xfrm>
              <a:off x="3201840" y="4371840"/>
              <a:ext cx="237672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4175280" y="4510080"/>
              <a:ext cx="20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"/>
          <p:cNvSpPr/>
          <p:nvPr/>
        </p:nvSpPr>
        <p:spPr>
          <a:xfrm>
            <a:off x="888840" y="43560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90" name="TPAnswers"/>
          <p:cNvSpPr/>
          <p:nvPr/>
        </p:nvSpPr>
        <p:spPr>
          <a:xfrm>
            <a:off x="914400" y="250812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14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PQuestion"/>
          <p:cNvSpPr/>
          <p:nvPr/>
        </p:nvSpPr>
        <p:spPr>
          <a:xfrm>
            <a:off x="533520" y="1504800"/>
            <a:ext cx="81532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2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2)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6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0)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33520" y="3392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–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–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 +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1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PAnswers"/>
          <p:cNvSpPr/>
          <p:nvPr/>
        </p:nvSpPr>
        <p:spPr>
          <a:xfrm>
            <a:off x="1066680" y="2400480"/>
            <a:ext cx="43434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0 &lt;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 27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0 &lt;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 18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0 &lt;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0 &lt;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&lt; 6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PQuestion"/>
          <p:cNvSpPr/>
          <p:nvPr/>
        </p:nvSpPr>
        <p:spPr>
          <a:xfrm>
            <a:off x="685800" y="1657440"/>
            <a:ext cx="80200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44944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1072440" y="1676520"/>
            <a:ext cx="266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&lt;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2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6) &gt;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9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 +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1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33520" y="52578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3) ≥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7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 –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33520" y="3392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24" name=""/>
          <p:cNvGrpSpPr/>
          <p:nvPr/>
        </p:nvGrpSpPr>
        <p:grpSpPr>
          <a:xfrm>
            <a:off x="1066680" y="2400480"/>
            <a:ext cx="2791080" cy="3306600"/>
            <a:chOff x="1066680" y="2400480"/>
            <a:chExt cx="2791080" cy="3306600"/>
          </a:xfrm>
        </p:grpSpPr>
        <p:sp>
          <p:nvSpPr>
            <p:cNvPr id="525" name="TPAnswers"/>
            <p:cNvSpPr/>
            <p:nvPr/>
          </p:nvSpPr>
          <p:spPr>
            <a:xfrm>
              <a:off x="1066680" y="24004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| –1 &lt;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&lt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| 1 &lt; 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&lt; 2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6" name="" descr=""/>
            <p:cNvPicPr/>
            <p:nvPr/>
          </p:nvPicPr>
          <p:blipFill>
            <a:blip r:embed="rId4"/>
            <a:stretch/>
          </p:blipFill>
          <p:spPr>
            <a:xfrm>
              <a:off x="1628640" y="3084480"/>
              <a:ext cx="2028960" cy="186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TPQuestion"/>
          <p:cNvSpPr/>
          <p:nvPr/>
        </p:nvSpPr>
        <p:spPr>
          <a:xfrm>
            <a:off x="685800" y="1657440"/>
            <a:ext cx="8020080" cy="7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hich of the following is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no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a solution to the inequality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2) ≤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8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6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55260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35" name=""/>
          <p:cNvGrpSpPr/>
          <p:nvPr/>
        </p:nvGrpSpPr>
        <p:grpSpPr>
          <a:xfrm>
            <a:off x="1066680" y="2641680"/>
            <a:ext cx="2791080" cy="3306600"/>
            <a:chOff x="1066680" y="2641680"/>
            <a:chExt cx="2791080" cy="3306600"/>
          </a:xfrm>
        </p:grpSpPr>
        <p:sp>
          <p:nvSpPr>
            <p:cNvPr id="536" name="TPAnswers"/>
            <p:cNvSpPr/>
            <p:nvPr/>
          </p:nvSpPr>
          <p:spPr>
            <a:xfrm>
              <a:off x="1066680" y="26416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   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1806480" y="3505320"/>
              <a:ext cx="533520" cy="738000"/>
              <a:chOff x="1806480" y="3505320"/>
              <a:chExt cx="533520" cy="738000"/>
            </a:xfrm>
          </p:grpSpPr>
          <p:sp>
            <p:nvSpPr>
              <p:cNvPr id="538" name=""/>
              <p:cNvSpPr/>
              <p:nvPr/>
            </p:nvSpPr>
            <p:spPr>
              <a:xfrm>
                <a:off x="1806480" y="35244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835280" y="35053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35280" y="38750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1523880" y="4452840"/>
              <a:ext cx="533520" cy="738000"/>
              <a:chOff x="1523880" y="4452840"/>
              <a:chExt cx="533520" cy="738000"/>
            </a:xfrm>
          </p:grpSpPr>
          <p:sp>
            <p:nvSpPr>
              <p:cNvPr id="542" name=""/>
              <p:cNvSpPr/>
              <p:nvPr/>
            </p:nvSpPr>
            <p:spPr>
              <a:xfrm>
                <a:off x="1523880" y="44719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552680" y="44528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552680" y="482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812880" y="182880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valuated logarithmic expressions and solved logarithmic equations. (Lesson 8–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812880" y="405756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nd evaluate expressions using the properties of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2880" y="508644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ogarithmic equations using the properties of logarith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3:59Z</dcterms:modified>
  <cp:revision>59</cp:revision>
  <dc:subject/>
  <dc:title>Glencoe Algebra 2</dc:title>
</cp:coreProperties>
</file>